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media/image5.wmf" ContentType="image/x-wmf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56EC-E53A-410B-A19E-9B53C959D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2259-C893-4570-9337-1293D9503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3125-C55A-4BFA-84C9-000BDEBE3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A457-5AC6-44A7-A35D-69A174EF5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CA4A-8488-4CE6-AAD2-27D1E373A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1481-CF51-43C9-BF56-B93C1C4DE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EBAA-4018-4816-AAC4-41D6C7F8A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E452-AEFB-4924-B592-E4B3DEF2B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8E82-56F2-4302-ACDB-7FF214469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8EB9-6719-429A-8D91-4A6AED702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96AB-8F45-4B1E-8F44-C5ECCE23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FE1E-7245-433D-A82C-ACF39785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33906-E6FE-4490-8A99-7889B19D88F2}" type="datetime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092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452760" y="6359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C1B60-D5CE-462D-AA74-4905CAFC8FDE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2514240"/>
            <a:ext cx="70102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inion"/>
              </a:rPr>
              <a:t>JERRY Project Planning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Minion"/>
              </a:rPr>
              <a:t>&gt; Software &lt;</a:t>
            </a:r>
            <a:endParaRPr b="1" lang="en-US" sz="4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409680" y="4981680"/>
            <a:ext cx="6296040" cy="14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Yang Yong Qi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PL S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BenQ Mobile, 28.02.2006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9E9C-5B67-474E-86FB-52D4C024196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Resource Profil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    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PL-HW:     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Poul Erik Rask</a:t>
            </a:r>
            <a:r>
              <a:rPr b="0" lang="en-US" sz="36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(Aalborg / DK)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Experienced technical project leader of ODM projects: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CL50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ST55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ST60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CFX65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CL75 (Taiwan)</a:t>
            </a:r>
            <a:br>
              <a:rPr sz="2800"/>
            </a:b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Hardware project leader of JERRY (in Aalborg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D9B6-EB59-4307-8D62-7E852A907B9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Resource Profil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    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PL-IM/DL:   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Allan Hansen 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(Aalborg / DK)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a0e66"/>
                </a:solidFill>
                <a:latin typeface="Minion"/>
              </a:rPr>
              <a:t>Software and Integration Manager of Projects like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PoC for Ulysses Refresh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“</a:t>
            </a: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Next generation software platform”</a:t>
            </a:r>
            <a:br>
              <a:rPr sz="2400"/>
            </a:b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Project leader Integration Management and Device Layer for JERRY (working in Beijing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6953-C15B-46D8-A282-A59D1E71247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Resource Profil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Part Project Leaders (PPL) working in Aal / DK: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Flemming Kokholm (JERRY: System Test): </a:t>
            </a:r>
            <a:br>
              <a:rPr sz="2800"/>
            </a:b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Venus (ODM), S56 Marlin, Aries, Cormorant 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Randi Bak (JERRY: Layout / Production Data): </a:t>
            </a:r>
            <a:br>
              <a:rPr sz="2800"/>
            </a:b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Xelibri X3, Hera, Cormorant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Flemming Bach Kristensen (JERRY: Digital HW): </a:t>
            </a:r>
            <a:br>
              <a:rPr sz="2800"/>
            </a:b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S56, C56, Janus, Venus, Robin, Wolf 4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Arne Bisgaard Kristensen (JERRY: EMC/Ant): Hera C65, C66, C70, C71, Pegasus AX75, AX76, AX72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Michael Brammer (JERRY: RF): </a:t>
            </a:r>
            <a:br>
              <a:rPr sz="2800"/>
            </a:b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HP4000, Dual com 738, World 718, Dual com 439/939, Dual GSM 300, SP55, SX1, Hydra.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0D89-1705-42C6-A813-96FEA721E50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Resource Profil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    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PL SW:    Yang Yong Qiang (Beijing, PRC)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More than 9 years in software development Mobile phones and IS-95 CDMA Basestation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Leading Java topics in Beijing R&amp;D Center, BenQ/Siemens Mobile, incl. CLDC HI, DoJa, JSR177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PL SW Dorado and Libra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  <a:ea typeface="宋体"/>
              </a:rPr>
              <a:t>Software Project Leader of JERRY (in Beijing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3B00-DE49-4220-B0F4-3519F9FBFDA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Resource Profil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	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PL Feature: Hu Chun Yan (Beijing, PRC)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More than 8 years in software development Mobile phones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Leading DoJa Development in Beijing R&amp;D Center, BenQ/Siemens Mobile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a0e66"/>
                </a:solidFill>
                <a:latin typeface="Minion"/>
                <a:ea typeface="宋体"/>
              </a:rPr>
              <a:t>Features Project Leader of JERRY (in Beijing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2E16-4729-4C0A-B7EA-CF7EB9D889B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Resource Profil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	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BenQ Beijing Development Team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More than 5 years SW development experience on average, with 2 years in BenQ/Siemens Mobile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System Architect: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Stefan Burkert (coach)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Chen Mian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Development Team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Cui Yi (Lead)                             Lu Qi Wen (SW Arch)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Song Wen Juan (SW Arch)       Yi Xiao Qiang (SE*)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Zhou Tong (SE*)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2 local consultants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宋体"/>
              </a:rPr>
              <a:t>-- SE* = Senior Engineer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9A70-B7DB-419E-993A-98306E20ABE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Resource Profil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	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SISL PL off-shore: Rajeev Chauhan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More than 11 years in software development and system testing for Mobile phones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UMTS NodeB OAM, transportation systems and protocol development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a0e66"/>
                </a:solidFill>
                <a:latin typeface="Minion"/>
                <a:ea typeface="宋体"/>
              </a:rPr>
              <a:t>Leader of the UI development team in India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9DCA-3598-4C7A-8D62-B6FAE546442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Resource Profil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SL Development Team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More than 5 years SW development experience on average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Rajeev Bhatia: Architect AppMsg (messaging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Sunisha Aggarwal: Architect AppBase/Avatar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Gagan Kashyap: Architect AppBase/AppIDC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25 SW Engineers (with 2 - 11 years experience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DF84-31F3-4F59-A1FD-18E6AFAE17C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Software Project going AGIL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825480"/>
            <a:ext cx="837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BACKLOG = list of all tasks to be performed        [Ref.:    C75-Aries / SGlite SW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53880" y="1239840"/>
            <a:ext cx="8394840" cy="500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BAF0-90C5-4769-8C6F-FAB728E56B0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Software Project going AGIL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825480"/>
            <a:ext cx="837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BACKLOG (continued)        [Ref.:    C75-Aries / SGlite SW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01760" y="1252440"/>
            <a:ext cx="8332560" cy="4407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D263-A66F-4DB3-9495-756D8E6E1D1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CONTENT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305920" cy="10670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Resource Profile   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81080"/>
            <a:ext cx="8305920" cy="1600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Plan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0853-C2CF-48D9-94C2-6F643F42097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Software Project going AGIL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825480"/>
            <a:ext cx="837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BACKLOG (continued)        [Ref.:    C75-Aries / SGlite SW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19040" y="1263600"/>
            <a:ext cx="8305920" cy="446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458A-918D-489A-A2EB-0C16DA74953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3a0e66"/>
                </a:solidFill>
                <a:latin typeface="Minion"/>
              </a:rPr>
              <a:t>JERRY – SW Implementation in Sprints (I.1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85920" y="992160"/>
            <a:ext cx="8346960" cy="484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4138-B4D6-4D82-BD8B-D951D594E87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3a0e66"/>
                </a:solidFill>
                <a:latin typeface="Minion"/>
              </a:rPr>
              <a:t>JERRY – SW Implementation in Sprints (I.2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07880" y="976320"/>
            <a:ext cx="8339400" cy="4713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387B-6ECC-4D32-B6B8-F8668FDB356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3a0e66"/>
                </a:solidFill>
                <a:latin typeface="Minion"/>
              </a:rPr>
              <a:t>JERRY – SW Implementation in Sprints (I.3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07880" y="958680"/>
            <a:ext cx="8348760" cy="3241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2D50-C5C0-4B89-93F3-A38F894BE1F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3a0e66"/>
                </a:solidFill>
                <a:latin typeface="Minion"/>
              </a:rPr>
              <a:t>JERRY – SW Implementation in Sprints (I.4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09680" y="950760"/>
            <a:ext cx="8324640" cy="369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E541-945F-4233-8F79-BE1B07E0C9E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3a0e66"/>
                </a:solidFill>
                <a:latin typeface="Minion"/>
              </a:rPr>
              <a:t>JERRY – SW Implementation in Sprints (II.1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53880" y="988920"/>
            <a:ext cx="8394840" cy="5200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4A6E-0D40-4124-8635-2A1435E52E7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3a0e66"/>
                </a:solidFill>
                <a:latin typeface="Minion"/>
              </a:rPr>
              <a:t>JERRY – SW Implementation in Sprints (II.2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57120" y="984240"/>
            <a:ext cx="8393040" cy="3711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BC17-FE40-4159-9AB2-986758F4C2D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3a0e66"/>
                </a:solidFill>
                <a:latin typeface="Minion"/>
              </a:rPr>
              <a:t>JERRY – SW Implementation in Sprints (III.1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53880" y="985680"/>
            <a:ext cx="8385480" cy="438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5AA4-E8EF-40B3-9043-03CD8E9A530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3a0e66"/>
                </a:solidFill>
                <a:latin typeface="Minion"/>
              </a:rPr>
              <a:t>JERRY – SW Implementation in Sprints (III.2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57120" y="988920"/>
            <a:ext cx="8391600" cy="4081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A901-2A53-493B-9748-6C3A60FCD62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3a0e66"/>
                </a:solidFill>
                <a:latin typeface="Minion"/>
              </a:rPr>
              <a:t>JERRY – SW Implementation in Sprints (III.3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53880" y="982800"/>
            <a:ext cx="8390160" cy="383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516D-8E00-4CAE-911B-A4AFE23A226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08000" y="11592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BenQ Siemens Jerry –Org Chart per site &amp;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73480" y="816120"/>
            <a:ext cx="1874880" cy="43812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PM </a:t>
            </a:r>
            <a:r>
              <a:rPr b="1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Koh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KhengWa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484360" y="198900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L-T Arjen Broe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40360" y="198900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L-T Lars Bon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40360" y="198900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L-T Sara </a:t>
            </a:r>
            <a:r>
              <a:rPr b="1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S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48360" y="235116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lanning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948360" y="278280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L CM/IM/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948360" y="321480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48360" y="364644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L Q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48360" y="407844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L M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948360" y="451008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T 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948360" y="494352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948360" y="530208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L- H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11280" y="1844640"/>
            <a:ext cx="338472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867280" y="1844640"/>
            <a:ext cx="273708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1844640"/>
            <a:ext cx="201744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242100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L SW </a:t>
            </a:r>
            <a:r>
              <a:rPr b="1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Yang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Y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2852640"/>
            <a:ext cx="180000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W Archit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3284640"/>
            <a:ext cx="180000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W Q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806560" y="5075280"/>
            <a:ext cx="2475000" cy="5540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rd Party: SISL Indi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9640" y="198900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TPM </a:t>
            </a:r>
            <a:r>
              <a:rPr b="1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Zhang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Shua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76720" y="3716280"/>
            <a:ext cx="180000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ystem 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88600" y="1482840"/>
            <a:ext cx="196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jing:  Software / 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860440" y="1463760"/>
            <a:ext cx="224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alborg:  HW / Mechan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3520" y="1268280"/>
            <a:ext cx="182952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jing / Shanghai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usiness Op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76720" y="4149720"/>
            <a:ext cx="180000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285264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CM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321300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ccessory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357336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ariant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5280" y="393228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ustomer C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429264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pplication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95280" y="465300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trategy Procur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01336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5280" y="537228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O 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1DE7-F566-4159-BD40-504DAC489AC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3a0e66"/>
                </a:solidFill>
                <a:latin typeface="Minion"/>
              </a:rPr>
              <a:t>JERRY – SW Implementation in Sprints (IV.1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57120" y="981000"/>
            <a:ext cx="8396280" cy="36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8683-8C2D-4793-A59A-BF6E8C65DFB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3a0e66"/>
                </a:solidFill>
                <a:latin typeface="Minion"/>
              </a:rPr>
              <a:t>JERRY – SW Implementation in Sprints (IV.2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53880" y="976320"/>
            <a:ext cx="8404200" cy="39132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454040" y="5175360"/>
            <a:ext cx="6112080" cy="82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91C8-B954-4B8F-BD99-418FAD299A6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60360" y="1211400"/>
            <a:ext cx="3971880" cy="5014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332240" y="1211400"/>
            <a:ext cx="3971880" cy="5014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Key Milestone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82760" y="1288800"/>
            <a:ext cx="5208480" cy="46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M0: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3-02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0: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8-02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M1: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1-03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15: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5-04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2/S25: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18-07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3: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17-08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PS: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02-10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DS: 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09-10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2" name=""/>
          <p:cNvSpPr/>
          <p:nvPr/>
        </p:nvSpPr>
        <p:spPr>
          <a:xfrm>
            <a:off x="3875760" y="1333440"/>
            <a:ext cx="477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Agreed Product Backlog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03 M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30440" y="4049640"/>
            <a:ext cx="388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B1(</a:t>
            </a:r>
            <a:r>
              <a:rPr b="1" lang="de-DE" sz="1800" spc="-1" strike="noStrike" baseline="30000">
                <a:solidFill>
                  <a:srgbClr val="cc0000"/>
                </a:solidFill>
                <a:latin typeface="Minion"/>
                <a:ea typeface="文鼎中黑"/>
              </a:rPr>
              <a:t>+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) samples to VF: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10 Jul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73240" y="5129280"/>
            <a:ext cx="480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Start acceptance tests: 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10 Jul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07760" y="5797440"/>
            <a:ext cx="397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Global SW approval: 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29 Sep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63400" y="771480"/>
            <a:ext cx="40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Software Milestones (Ag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9240" y="771480"/>
            <a:ext cx="29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Product Milest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426840" y="1752480"/>
            <a:ext cx="562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Sprint 1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+ Demo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03 Ap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341240" y="2068560"/>
            <a:ext cx="38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VF Feedback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07 Ap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14240" y="2570040"/>
            <a:ext cx="57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Sprint 2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+ Demo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04 Ma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328640" y="2886120"/>
            <a:ext cx="388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VF Feedback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11 Ma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6840" y="3351240"/>
            <a:ext cx="55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Sprint 3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+ Demo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05 Ju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341240" y="3666960"/>
            <a:ext cx="37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VF Feedback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09 Ju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434760" y="4465800"/>
            <a:ext cx="550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Sprint 4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+ Demo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10 Ju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91960" y="4781520"/>
            <a:ext cx="459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S25-SW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10 Ju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334760" y="5467320"/>
            <a:ext cx="382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S3-SW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28 Jul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8407-F5C0-44B0-9480-1D18F549D04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640" y="115560"/>
            <a:ext cx="66247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Jerry Vodafone Approval plan (SGL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1004760" y="980640"/>
            <a:ext cx="180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144936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95400" y="980640"/>
            <a:ext cx="180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2343240" y="980640"/>
            <a:ext cx="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2787480" y="980640"/>
            <a:ext cx="180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323064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56052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4123800" y="980640"/>
            <a:ext cx="176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4564080" y="980640"/>
            <a:ext cx="468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5016600" y="980640"/>
            <a:ext cx="3024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5435640" y="980640"/>
            <a:ext cx="792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6351480" y="980640"/>
            <a:ext cx="2232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660840" y="980640"/>
            <a:ext cx="1908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804000" y="1052640"/>
            <a:ext cx="1440" cy="5472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730728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5867280" y="980640"/>
            <a:ext cx="792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04000" y="1700280"/>
            <a:ext cx="465120" cy="0"/>
          </a:xfrm>
          <a:prstGeom prst="line">
            <a:avLst/>
          </a:prstGeom>
          <a:ln w="38160">
            <a:solidFill>
              <a:srgbClr val="80008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607080" y="3878280"/>
            <a:ext cx="1508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372360" y="1052640"/>
            <a:ext cx="15062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VF fin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ccep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164360" y="1628640"/>
            <a:ext cx="120600" cy="14472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38480" y="1697040"/>
            <a:ext cx="3989160" cy="3240"/>
          </a:xfrm>
          <a:prstGeom prst="line">
            <a:avLst/>
          </a:prstGeom>
          <a:ln w="38160">
            <a:solidFill>
              <a:srgbClr val="80008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441360" y="1696680"/>
            <a:ext cx="1531800" cy="34920"/>
          </a:xfrm>
          <a:prstGeom prst="line">
            <a:avLst/>
          </a:prstGeom>
          <a:ln w="38160">
            <a:solidFill>
              <a:srgbClr val="800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156360" y="1628640"/>
            <a:ext cx="122040" cy="14472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380360" y="1844640"/>
            <a:ext cx="1085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tart shi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64040" y="1314360"/>
            <a:ext cx="180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CF / TA s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39760" y="1625760"/>
            <a:ext cx="119160" cy="14436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76360" y="2492280"/>
            <a:ext cx="825480" cy="144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3276720" y="2491920"/>
            <a:ext cx="3527280" cy="144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804000" y="2492280"/>
            <a:ext cx="466920" cy="144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65160" y="2666880"/>
            <a:ext cx="180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e-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65480" y="2685960"/>
            <a:ext cx="361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cceptance te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513480" y="2852640"/>
            <a:ext cx="1084320" cy="3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101080" y="2276640"/>
            <a:ext cx="1440" cy="2616120"/>
          </a:xfrm>
          <a:prstGeom prst="line">
            <a:avLst/>
          </a:prstGeom>
          <a:ln w="2844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27280" y="2060640"/>
            <a:ext cx="361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8 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132000" y="4221000"/>
            <a:ext cx="174600" cy="235080"/>
          </a:xfrm>
          <a:prstGeom prst="triangle">
            <a:avLst>
              <a:gd name="adj" fmla="val 57144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771640" y="4653000"/>
            <a:ext cx="16416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Test Phase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859280" y="4941720"/>
            <a:ext cx="173160" cy="23508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859280" y="4941720"/>
            <a:ext cx="113364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2 Samp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59280" y="4869000"/>
            <a:ext cx="172800" cy="233280"/>
          </a:xfrm>
          <a:prstGeom prst="triangle">
            <a:avLst>
              <a:gd name="adj" fmla="val 57144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003640" y="4292640"/>
            <a:ext cx="173160" cy="235080"/>
          </a:xfrm>
          <a:prstGeom prst="triangle">
            <a:avLst>
              <a:gd name="adj" fmla="val 50000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641120" y="4653000"/>
            <a:ext cx="144108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Test Phase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6298560" y="4365720"/>
            <a:ext cx="1441080" cy="536400"/>
            <a:chOff x="6298560" y="4365720"/>
            <a:chExt cx="1441080" cy="536400"/>
          </a:xfrm>
        </p:grpSpPr>
        <p:sp>
          <p:nvSpPr>
            <p:cNvPr id="210" name=""/>
            <p:cNvSpPr/>
            <p:nvPr/>
          </p:nvSpPr>
          <p:spPr>
            <a:xfrm>
              <a:off x="6701760" y="4365720"/>
              <a:ext cx="173160" cy="234000"/>
            </a:xfrm>
            <a:prstGeom prst="triangle">
              <a:avLst>
                <a:gd name="adj" fmla="val 50000"/>
              </a:avLst>
            </a:prstGeom>
            <a:solidFill>
              <a:srgbClr val="bad1e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98560" y="4651920"/>
              <a:ext cx="144108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t">
              <a:sp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2b5d"/>
                  </a:solidFill>
                  <a:latin typeface="Arial"/>
                </a:rPr>
                <a:t>Start Test Phase 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1403280" y="4292640"/>
            <a:ext cx="173160" cy="235080"/>
          </a:xfrm>
          <a:prstGeom prst="triangle">
            <a:avLst>
              <a:gd name="adj" fmla="val 57144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185840" y="4633920"/>
            <a:ext cx="108432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Pre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348000" y="4869000"/>
            <a:ext cx="10080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2 Samp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2700000" y="5494320"/>
            <a:ext cx="4692960" cy="259920"/>
            <a:chOff x="2700000" y="5494320"/>
            <a:chExt cx="4692960" cy="259920"/>
          </a:xfrm>
        </p:grpSpPr>
        <p:sp>
          <p:nvSpPr>
            <p:cNvPr id="216" name=""/>
            <p:cNvSpPr/>
            <p:nvPr/>
          </p:nvSpPr>
          <p:spPr>
            <a:xfrm flipH="1">
              <a:off x="2699640" y="5502240"/>
              <a:ext cx="198360" cy="203400"/>
            </a:xfrm>
            <a:prstGeom prst="flowChartExtra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4314240" y="5502240"/>
              <a:ext cx="199800" cy="203400"/>
            </a:xfrm>
            <a:prstGeom prst="flowChartExtra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6188040" y="5502240"/>
              <a:ext cx="200160" cy="203400"/>
            </a:xfrm>
            <a:prstGeom prst="flowChartExtra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459320" y="5499000"/>
              <a:ext cx="113508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t">
              <a:sp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2b5d"/>
                  </a:solidFill>
                  <a:latin typeface="Arial"/>
                </a:rPr>
                <a:t>SW Drop 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825640" y="5504040"/>
              <a:ext cx="113184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t">
              <a:sp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2b5d"/>
                  </a:solidFill>
                  <a:latin typeface="Arial"/>
                </a:rPr>
                <a:t>SW Drop 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259320" y="5494320"/>
              <a:ext cx="113364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t">
              <a:sp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2b5d"/>
                  </a:solidFill>
                  <a:latin typeface="Arial"/>
                </a:rPr>
                <a:t>SW Drop 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324000" y="4192560"/>
            <a:ext cx="7777080" cy="2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0080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8939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4493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3385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7828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225960" y="411948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6702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133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56160" y="411948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0007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44212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88636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372360" y="414972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04000" y="414972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308720" y="414972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634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62760" y="400536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570640" y="4005360"/>
            <a:ext cx="1364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489720" y="401652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948360" y="400536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74640" y="401328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95520" y="4013280"/>
            <a:ext cx="1317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103400" y="401328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050920" y="4005360"/>
            <a:ext cx="1335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502000" y="401328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943360" y="401328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116680" y="4016520"/>
            <a:ext cx="1364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87920" y="401652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365640" y="400536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51280" y="402444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286160" y="4024440"/>
            <a:ext cx="1317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014480" y="4849920"/>
            <a:ext cx="172800" cy="233280"/>
          </a:xfrm>
          <a:prstGeom prst="triangle">
            <a:avLst>
              <a:gd name="adj" fmla="val 57144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258920" y="4869000"/>
            <a:ext cx="113184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1 Samp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rot="16200000">
            <a:off x="1244880" y="3306960"/>
            <a:ext cx="6879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10.07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344520" y="5494320"/>
            <a:ext cx="200160" cy="20160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76360" y="5497560"/>
            <a:ext cx="113184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SW Drop Pre</a:t>
            </a: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rot="16200000">
            <a:off x="73440" y="3756240"/>
            <a:ext cx="39708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-720" bIns="46080" anchor="t" vert="eaVer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52440" y="2773440"/>
            <a:ext cx="3319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b5d"/>
                </a:solidFill>
                <a:latin typeface="Arial"/>
              </a:rPr>
              <a:t>S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988360" y="2881440"/>
            <a:ext cx="2448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b5d"/>
                </a:solidFill>
                <a:latin typeface="Arial"/>
              </a:rPr>
              <a:t>S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812000" y="414972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24720" y="400536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rot="16200000">
            <a:off x="7124040" y="3326040"/>
            <a:ext cx="7207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2.10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6620760" y="3324240"/>
            <a:ext cx="7207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25.09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rot="16200000">
            <a:off x="3038760" y="3375000"/>
            <a:ext cx="6879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31.07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16200000">
            <a:off x="4838040" y="3378240"/>
            <a:ext cx="6825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28.8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809800" y="2492280"/>
            <a:ext cx="393840" cy="144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411280" y="2492280"/>
            <a:ext cx="287640" cy="144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411280" y="2060640"/>
            <a:ext cx="10083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ugfix +re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A270-E4ED-4738-9C81-736927AB907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60360" y="1211400"/>
            <a:ext cx="3971880" cy="5014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32240" y="1211400"/>
            <a:ext cx="3971880" cy="5014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Key Milestone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82760" y="1288800"/>
            <a:ext cx="5208480" cy="46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M0: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3-02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0: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8-02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M1: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1-03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15: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5-04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2/S25: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18-07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3: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17-08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PS: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02-10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DS: 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09-10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5" name=""/>
          <p:cNvSpPr/>
          <p:nvPr/>
        </p:nvSpPr>
        <p:spPr>
          <a:xfrm>
            <a:off x="4205880" y="1746360"/>
            <a:ext cx="25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=      Design Freez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330440" y="2954160"/>
            <a:ext cx="388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B1(</a:t>
            </a:r>
            <a:r>
              <a:rPr b="1" lang="de-DE" sz="1800" spc="-1" strike="noStrike" baseline="30000">
                <a:solidFill>
                  <a:srgbClr val="cc0000"/>
                </a:solidFill>
                <a:latin typeface="Minion"/>
                <a:ea typeface="文鼎中黑"/>
              </a:rPr>
              <a:t>+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) samples to VF: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03 Jul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4400" y="3251160"/>
            <a:ext cx="480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Start acceptance tests: 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10 Jul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307760" y="4603680"/>
            <a:ext cx="397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Global SW approval: 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29 Sep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75760" y="5572080"/>
            <a:ext cx="477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Shipment to Opcos by:  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13 Oc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203000" y="771480"/>
            <a:ext cx="321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Customer Milest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9240" y="771480"/>
            <a:ext cx="29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Product Milest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89E8-14F5-4E25-A8EB-373BD236D5B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495720" y="763560"/>
            <a:ext cx="4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Jerry Project Plan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" y="613404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57200" y="804960"/>
            <a:ext cx="847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363320" y="7635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278440" y="76356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152160" y="763560"/>
            <a:ext cx="55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086360" y="763560"/>
            <a:ext cx="47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Ju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951800" y="763560"/>
            <a:ext cx="41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Ju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46320" y="763560"/>
            <a:ext cx="53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45960" y="763560"/>
            <a:ext cx="4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513920" y="763560"/>
            <a:ext cx="49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8384760" y="7635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44600" y="1033560"/>
            <a:ext cx="847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23720" y="792000"/>
            <a:ext cx="0" cy="531504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1752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773600" y="816120"/>
            <a:ext cx="0" cy="5325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66244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551640" y="816120"/>
            <a:ext cx="0" cy="5325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44048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331120" y="7905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121760" y="1096920"/>
            <a:ext cx="38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81200" y="1096920"/>
            <a:ext cx="44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83720" y="109692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84200" y="1096920"/>
            <a:ext cx="38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984280" y="1109520"/>
            <a:ext cx="38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569640" y="1096920"/>
            <a:ext cx="38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113600" y="109692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419240" y="1096920"/>
            <a:ext cx="71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3/S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673640" y="1096920"/>
            <a:ext cx="44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10672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995560" y="816120"/>
            <a:ext cx="0" cy="5325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88476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095480" y="1650960"/>
            <a:ext cx="158724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711520" y="1650960"/>
            <a:ext cx="115884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1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908520" y="1650960"/>
            <a:ext cx="126360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199120" y="1650960"/>
            <a:ext cx="132084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791400" y="1650960"/>
            <a:ext cx="93024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Ramp-U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95580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120960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75572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272088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512136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608652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665172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20396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768672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085760" y="1484280"/>
            <a:ext cx="0" cy="467856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27320" y="147168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886040" y="14209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51200" y="14209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238720" y="14335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203880" y="145908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781680" y="14335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334280" y="14335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829640" y="14335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529320" y="1695600"/>
            <a:ext cx="263520" cy="2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ilot Ru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076400" y="2212920"/>
            <a:ext cx="73980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Design 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Free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835280" y="2212920"/>
            <a:ext cx="9777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Design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832120" y="2212920"/>
            <a:ext cx="9399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Hardt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08440" y="2212920"/>
            <a:ext cx="131112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lastic Parts 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143680" y="2212920"/>
            <a:ext cx="13395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lastic Parts 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182600" y="2852640"/>
            <a:ext cx="9003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101680" y="2852640"/>
            <a:ext cx="9003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030480" y="2852640"/>
            <a:ext cx="90000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951360" y="2852640"/>
            <a:ext cx="90000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114560" y="3252960"/>
            <a:ext cx="95868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pc simu setu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tart-up / power on dialo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dl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Phone spaces, colour schemes, icons, fon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oice call screen basi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Menu look and feel basi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Contact list and menu op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Remove or disable or hide featu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104920" y="3252960"/>
            <a:ext cx="93024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tartup As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tartup/ power on dialogu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dl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Contact list &amp; menu op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creen Trans. (Sliding Effec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olume Side, Ringer Side &amp; and lock k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ync. incl. remote sync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ettin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iew Contact Lo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Remove,disable or hide featu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048120" y="3252960"/>
            <a:ext cx="93024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tartup As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dl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oice call screens full func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oice messag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MsgA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Menu look &amp; Feel – full complia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Contact List &amp; Menu Op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creen Transitions (Sliding Effec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iew contact lo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Remove, disable or hide featu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F Simply Alarm Cloc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014720" y="3252960"/>
            <a:ext cx="93996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dl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nterruption by even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leep mode with timer settin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Text messages (SM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hover functionality in Contact li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F Simply Alar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MsgA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57200" y="2714760"/>
            <a:ext cx="8077320" cy="9360"/>
          </a:xfrm>
          <a:prstGeom prst="line">
            <a:avLst/>
          </a:prstGeom>
          <a:ln w="38160">
            <a:solidFill>
              <a:srgbClr val="66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1480" y="1690560"/>
            <a:ext cx="1011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Hard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060640" y="5856120"/>
            <a:ext cx="647640" cy="455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Sprint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Approv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045200" y="5816520"/>
            <a:ext cx="1316160" cy="398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Global SW Approv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7043760" y="559044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2280" y="2246400"/>
            <a:ext cx="10645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echan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6800" y="2854440"/>
            <a:ext cx="9259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002040" y="5848200"/>
            <a:ext cx="647640" cy="455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Sprint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Approv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898800" y="5856120"/>
            <a:ext cx="647640" cy="455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Sprint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Approv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664240" y="5324400"/>
            <a:ext cx="1658880" cy="260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Sprint 4</a:t>
            </a: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 Approval 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842000" y="5324400"/>
            <a:ext cx="771480" cy="347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Pre-Tes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FADD-10FA-4643-A333-D06F86D4CE4C}" type="slidenum">
              <a:t>35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08000" y="11592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BenQ Siemens Jerry –Org Chart per site &amp;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38040" y="603360"/>
            <a:ext cx="8229600" cy="6018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752A-5E83-4016-B7A9-19DB4326386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Project organization - Device Layer 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0" y="1108080"/>
          <a:ext cx="9144000" cy="512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08080"/>
                    <a:ext cx="9144000" cy="512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901C-0FEF-4224-8314-2335F8AFDA7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Integration Management suppor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79280" y="1052640"/>
          <a:ext cx="407664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052640"/>
                    <a:ext cx="407664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3924360" y="3573360"/>
          <a:ext cx="4437000" cy="297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3573360"/>
                    <a:ext cx="4437000" cy="29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8217-992B-47F6-904E-75C681F35E0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Meaning of Acronym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3722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Organizational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QA 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  = Quality Assurance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</a:rPr>
              <a:t>HW   = Hardware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</a:rPr>
              <a:t>MD    = Mechanical Design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</a:rPr>
              <a:t>ST 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</a:rPr>
              <a:t>  = System Test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</a:rPr>
              <a:t>LCM  = Lifecycle Management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</a:rPr>
              <a:t>NPI 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</a:rPr>
              <a:t>  = New Products Introduction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4" name=""/>
          <p:cNvSpPr/>
          <p:nvPr/>
        </p:nvSpPr>
        <p:spPr>
          <a:xfrm>
            <a:off x="4772160" y="990720"/>
            <a:ext cx="401004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Project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CPM = Category Product Mana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PL-T = Technical Project L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TPM = Technical Product Mana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BA 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 = Business Administ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3373560"/>
            <a:ext cx="4010040" cy="26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Technical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CA 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 = Core 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IM 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 = Integration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BM 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 = Build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CM  = Configuration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CIT 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 = Core Integration T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CDB = Component Data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IDB 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 = Integration Data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2417-1CBF-4E9A-A7C6-468C9A846DE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Resource Profil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    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PL-T:          Lars Bonde (Aalborg / Denmark)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Experienced</a:t>
            </a: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 leader of ODM projects 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Xelebri GPRS module (developed in France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Xelibri X8 (Developed in FIN / DK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Luna (Developed in Taiwan) 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Mars CC75 (Developed in Finland)</a:t>
            </a:r>
            <a:br>
              <a:rPr sz="2800"/>
            </a:b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Technical Project Leader of JERRY in Aalborg - responsible for all work-packages assigned to Aalborg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8662-0C7B-44A1-A869-16E705A82DA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Resource Profil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    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PL-MD:     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hristian P. Nielsen (Aalborg / DK)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Experienced</a:t>
            </a: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 leader of mechanical projects: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Dual 909, Dual 909S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Xelibri X3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Hera Nop1, 2 and 3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Cormorant</a:t>
            </a:r>
            <a:br>
              <a:rPr sz="2800"/>
            </a:b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Mechanical project leader of JERRY (in Aalborg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4E22-3BD6-4937-8079-E76F744D006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/>
  <dc:description/>
  <dc:language>en-US</dc:language>
  <cp:lastModifiedBy/>
  <dcterms:modified xsi:type="dcterms:W3CDTF">2006-02-28T12:12:17Z</dcterms:modified>
  <cp:revision>239</cp:revision>
  <dc:subject/>
  <dc:title>PowerPoint</dc:title>
</cp:coreProperties>
</file>